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8C7-D64F-4CEB-A9C5-8A738798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50DD-57FF-4E92-9152-9760B336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7400-A444-487E-BA2C-7EDC4954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A72-80C1-480D-8946-85F5E1B7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E6D1-49AD-4395-9EB6-AA30AD1D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1D4B-23E7-4FC7-998E-CF6EC00C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9377-C189-4E65-91D1-4153DE53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B26A-6780-4FD8-AFED-D5A0B7F2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2B59-98A0-4178-856C-F0C292A8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AA1-FAB6-447E-9760-0C0F47A4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DD6-F69D-49A9-A76F-A31C7756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F8E-3FF8-4C6C-9456-B39EA1F0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ED5B-AAC5-402D-B28A-A20E8B9135AD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Journées « pluies acides - 20 ans après 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Remarques conclusiv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Guy Landmann, ECO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Une journée très positiv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981080"/>
            <a:ext cx="807696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retrouver (pour certains) 20 ans aprè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contre (peu fréquente) de deux milieux : les « pollués » et les « pollueurs », de deux cultures : chercheurs &amp; ingénie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thématique reposant sur des bases solides et des prolongements nouveau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 orateurs  qui ont fait un effort didactique….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à suivre dans les Actes électroniques de la journé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liberté de ton de bon alo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acunes, interrogations (1/3)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 contraste avec S : difficulté à « boucler » pour N : cohérence entre les « dépassements des charges critiques » en N et les effets documentés ? Peut-on faire mieux vu la grande complexité des process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aspect important, mais non discuté, de la pollution azotée, : l’agriculture comme source de perturbations des milieux naturels (par le biais des émissions de NH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acunes, interrogations (2/3)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a « généralisation » et « spatialisation » des résultats sur les charges critiques se sont heurtées à la difficulté d’accès aux données et parfois ) des manques de données environnementales (une prise de conscience générale s’opère actuellemen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n a du mal à dépasser l’inquiétude concernant la pérennité du dispositif de suivi à long terme des forêts (quelles suggestions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acunes, interrogations (3/3)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rise en compte de la dimension humaine reste en retrait, notamment lorsqu’il s’agit de mise en œuvre de nouvelles pratiques par des acteurs diversifié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 goût pour les questions académiques et une certaine réticence vis-à-vis des médias semblent faire partie d’un « fond culturel » français. Avantage ou handicap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es composantes de l’animation scientifique et le lien avec l’aval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 l’initiative du MED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1997 (?) Proposition du MEDD d’action concertée sur les effets de la pollution atmosphérique de fond (POLATEC) non suivie d’effet (désaccord sur les modalité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1999 Forum Pollution (1999) communication MEDD - industriels - ag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2001 Groupe d’Animation Scientifique sur la pollution atmosphérique à longue distance : échanges  entre instituts ADEME, CITEPA,  INERIS, etc lien avec le MEDD (Conv. Genèv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Une question concernant la gouvernance de ce domain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818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ette journée a permis de s’interroger sur notre capacité à gérer une question environnementale sur le long ter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lle a révélé que l’intégration entre les différentes démarches ne se fait que difficilement et partielleme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s problèmes étant en bonne partie résolus, d’autres problèmes étant perçus comme plus aigus, est-il nécessaire, concevable, raisonnable, d’avoir plus d’ambition dans ce domaine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Merci pour votre atten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Bonne réflex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5:43:59Z</dcterms:created>
  <dc:creator>Guy LANDMANN</dc:creator>
  <dc:description/>
  <dc:language>en-US</dc:language>
  <cp:lastModifiedBy>Sandrine</cp:lastModifiedBy>
  <dcterms:modified xsi:type="dcterms:W3CDTF">2006-01-23T10:22:11Z</dcterms:modified>
  <cp:revision>29</cp:revision>
  <dc:subject/>
  <dc:title>Réflexions conclusives</dc:title>
</cp:coreProperties>
</file>